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632-567E-4222-8331-7E92F55D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E1E-55D2-423A-9DA9-F8395217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92C-EDE3-4BAA-BA3C-C86257C1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D43-156C-4794-9DB7-A675DAF3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865-167A-4072-8E65-527AC0F3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D6D-ED3E-4906-8FB9-8AEFFDEE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07C-94DF-45CB-ACE3-202FEAD3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83F-8AB5-4AC4-9A37-3EE6D98C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F5A-74DB-4EEF-9589-6287D6D9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7C0-0166-4BA4-890A-DE957DD0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666-7781-4FD3-88AA-7C428EE5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DF8-C712-4700-B5B0-DA7294FE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EFC1-AC34-437B-A0EA-4BF1F6BA37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36640" y="2890800"/>
          <a:ext cx="4545000" cy="3130560"/>
        </p:xfrm>
        <a:graphic>
          <a:graphicData uri="http://schemas.openxmlformats.org/drawingml/2006/table">
            <a:tbl>
              <a:tblPr/>
              <a:tblGrid>
                <a:gridCol w="2082960"/>
                <a:gridCol w="2462040"/>
              </a:tblGrid>
              <a:tr h="3747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е питом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и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ская св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мя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па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6521400" y="425520"/>
            <a:ext cx="5137200" cy="3390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5:54:46Z</dcterms:created>
  <dc:creator>Пользователь Windows</dc:creator>
  <dc:description/>
  <dc:language>en-US</dc:language>
  <cp:lastModifiedBy>Слава</cp:lastModifiedBy>
  <dcterms:modified xsi:type="dcterms:W3CDTF">2019-08-25T19:54:34Z</dcterms:modified>
  <cp:revision>3</cp:revision>
  <dc:subject/>
  <dc:title>Презентация PowerPoint</dc:title>
</cp:coreProperties>
</file>